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911-F679-4EC9-9173-7D7C7920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28D-DAAD-4861-BF59-D7283CFF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605-B469-4CF8-85B5-C692766F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ED8-4B17-41A4-BB12-F5D67AEA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A6A-A79B-4AC8-8352-55D868E8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F5E-9424-45D5-BC93-E3BEE289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4D0-9EFE-4A8B-A6EC-D0104870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05D-2999-48EA-BBB8-1F5B1340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89D-1112-4A89-8D08-BF837E08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712-F25D-4B3E-883F-628D7779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06D-EA18-4539-9E68-B68CF508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32B-0374-4FE4-974D-ED5BB0EA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D244-6782-4EF9-B9FB-B46E8676B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6 Príď k nám, Duch svät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k nám, Duch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bies výši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nieť sám v nás plam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šeni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vojej moci, slávne čin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ŕdc ľudských úhor prem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iatbe s láskou rozsievan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rody dopraj požehnan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do vini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j hojnosť vlahy, vzrastu pr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áskou zohrej každé srd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cirkev svoju požehn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celý svet to vidieť môž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ty nás vedieš, svätý Bož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k nám a veď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zjednoť k práci Boží ľu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vetlo naše jasne svieti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dozrie pole, vydá klas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stane žatva, radosť spás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09:55:34Z</dcterms:modified>
  <cp:revision>15</cp:revision>
  <dc:subject/>
  <dc:title>Je veľký náš Pán, on slávy je Kráľ Nech do všetkých strán  spev vrúcnych znie chvál.</dc:title>
</cp:coreProperties>
</file>